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media/image12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2A1E-D5A4-408B-9CC8-990DDD3AA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73C9-0E7E-490C-A750-24CFFFF0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3C1F1-DA3D-49A5-A5B8-AE94AB4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D8766-3B2D-4DE5-9C10-ADB5B84B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1A18D-C607-4091-A4A4-FF2B5082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4BBA3F-6E58-4EF5-91C5-5214402F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808D88-3C9B-41F4-87C9-63E66EBA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CD044A-DDC1-41D0-BD89-D13067A8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C2F9A-DD52-4755-BE59-E36AC1C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4759A-5C98-41F2-83EB-85C0997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1ABF1-B546-4A58-8D5B-F487F356F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FF9A1-3F24-4B7D-B9D6-90F9BD726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C3A3-43A3-4F29-A219-241A49C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8E941-75DC-4B9B-BAC6-69F950B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DA7C-9EEF-4B5D-A977-205D2D5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C0F8-53A2-4C6B-A00F-8C6FF97A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F326F-952F-4194-8334-F7ACC064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F072-5053-4C18-BF98-DFF93820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7C90-B364-4895-86A5-75073BC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9839-CDCA-427D-B8CB-51E9489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0B8D-3D22-4666-8166-33CE239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016D3-02FB-4D29-80E0-9A8E1C7D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BC3FD-ED5A-4EF2-B133-1F677F7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583E-5FF8-4DC6-884E-3A2EE534C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F56A-6473-4613-B22E-E883E2ED5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DE916-CBE4-4A65-82D0-5DB22227C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DCEF3-05FD-485B-BE0C-FE6C62D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01DF7-2FA8-4956-A53F-A7C1242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3D209-A9D9-4435-8AAD-E2EA0FE5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5F8F2-7D40-403B-A13F-09E27A5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544D5-7BBE-4217-B92B-7D12B405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22E8A-4A13-4F1C-804A-141BF1E6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6B15D-B240-4E91-9057-2E8052C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D6CCF-DFE0-4E9A-915A-D9BC4653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F571-02B7-4003-9F94-083A02BAB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E9F30-0834-4EBB-983C-7BE8B57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E7264-509F-44EB-8BA9-7882C4B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23593-68AC-45CD-9C45-15CFA01F8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3AC74-4A1A-43E0-8CA5-9D0D27738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0A95F-77C0-4B5C-8091-5068DAD4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0CFBA-3BB4-4DCB-9D93-7BB2F90A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D511D-A5DB-4C73-BD83-942C174F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B76C9-9FCC-463E-8BDD-ABBBAC90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763A7-8CB0-4A57-9657-8EE1E601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6A344-A45A-47F6-B54C-9138D27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C439-B425-408C-BC61-60857D0A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1185D-6D5A-4948-90AF-23CADFD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9750E-7ACB-4EDC-B599-3B0648B2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587E8-5114-4E47-A67F-52D3DDA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D82F0-3046-4434-B847-8CC110A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22430-83B0-4A14-B346-1D9646FB5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2C159-F215-4E72-B274-227A8B70B4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19022-BCF9-4ACC-8D0B-9FCB750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09B8A-4CF7-45C3-84E1-A8D57B2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35756-AF50-4002-8BB9-1B45A5D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8EB9B-B442-4058-9281-F49F97F8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C8FE-52E9-4F46-90C2-288729A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86C3F-D9CC-4A6E-869B-3AD075D6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DF49A-A19E-400E-893C-2D9EC7E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47189-8E19-43FF-A6ED-374443B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32F4-4B94-4942-8CB0-2D9D3C27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F29A6-A963-4CD7-AD44-8A38563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B6285-53EB-4189-A471-870F2598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CA476-820B-4A37-BE83-8AB7C2B3F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5A8A5-5387-45AE-A66A-E4E3B6E7E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56E02C-61B6-4BEA-99EE-C5355AF1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1298FC-6E5A-4AE8-8EE5-A121C143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F58B5-945E-4F6E-A293-CD33AEB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98BBE-6A25-4435-BD9F-3F01D61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07633B-DF72-4F8B-B833-821C532B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4AE9CD-5357-4ADC-8881-DF1155AC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909A08-9C24-436A-A830-10D1A38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C457A4-0567-42D2-B52A-8B080CFC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B6147-655D-48F9-8D61-2150E330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467BF-217A-47C6-9E05-687CA25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6E090-B67E-4EA3-9FF7-580F903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9DAB3D-AB31-48E1-A026-AD21DF4D3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648A47-6CD1-4537-B22C-358331CFA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655A8-837A-4DB2-9DA3-41D35ED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7FA7F6-FBD9-4262-9ED0-897DF43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A46EC6-E68D-4227-AA10-C798CB1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168F09-9E9C-42D5-BEA1-25F0A6C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84017F-491C-45F6-94E8-B6486E2C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5E03C2-03D5-4507-AD2E-51669B6E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25C161-0C9C-4E2B-901C-2E094864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0E6AC3-FD50-483C-BD9C-E95D111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779B89-C798-485A-9B6F-4EC978C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ECC59D-9602-4F3C-BC9C-3AAE120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8A7288-A556-4756-A870-75C675F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4F25-6DC0-4FB2-B1AB-E83756B1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C420F3-F56F-403C-856F-75EC859AF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5AD3-78A4-44AA-8568-2456CAC6E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3D744-AFFA-41F7-90AD-E36963A6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829FA-E105-40C5-B3C8-BCF0CD3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D22BD-F06A-44C2-9F8B-326240B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F8986-285A-4AC4-BCE8-8B145895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C6ED9-79EB-4D9F-8880-95027BD4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C6F8-AF53-4F2D-B897-73EEE6E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16025-544F-4D8A-84B3-4DD33DB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06157-CB15-47C9-8A61-FCE9FE0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49A3F-19AC-4512-9D16-EACDDB21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F376C-F49E-4E3E-AD2C-0C9F837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B487C-3643-41ED-B99F-DD933CC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6607E-5695-4022-84B0-A06F87C03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B6ACEF-227C-43B2-AB3A-22D42E2E3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F53162-3345-44D1-8CFE-64C928D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C14CFF-2294-499B-A99E-271E47E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BAFDA-20D0-428E-834C-F2E93107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4DB7B5-7BAA-475C-B019-63662F9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743BA6-60C1-4F52-B342-F87765E0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B59EA5-DF6F-46B3-9775-5F0CF7EF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54E5-9CCA-4FDE-BDB7-AAC66D8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41D3D-E79E-4EE0-B909-7C4F896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BA38EF-8195-4D84-9BF2-7D643A9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43490D-79B9-4303-95C9-45856BE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400EC7-BDF4-4BEC-8EC5-14B0515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0EF9FB-1124-44C5-8DCC-BEE5276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937DCB-823B-4A45-B778-1DD668A0F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2D913-7765-419A-974E-BC60791F7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E85D74-9AA2-46DB-8A16-9342165C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B1DE29-6667-42A8-A83D-90583018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06FA6D-C345-47DD-BDE6-380D345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33611-5D85-4480-923C-0A31BCDD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52E5-AD3A-4F6D-865F-A2816A5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E5858A-E857-463D-BA23-2039F857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ED9B5C-00F3-4B1E-87BD-6B4B71C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C72215-42AA-4552-A4DC-726964F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A49D4A-8C21-46B9-93C3-760070A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C319C8-5E09-4AEA-8D0C-53969E7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13D6B8-4097-4F7D-8DE5-7AD7679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21BC08-BAAF-426C-A441-9141F0E04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124F9-B494-4153-A155-772291D02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755FC-3355-45F0-BE85-1182A50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D0127-3F34-4C2F-BDE2-E8852A5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805E4-10DB-44EB-A818-31280E7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5204D-D231-453A-ADAF-030512B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6D3CE-2704-4CD2-97FF-739CA495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88036-0F3C-405F-9785-E9985F38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17DB4-F3AD-43C9-A570-DD62D90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97F40-7434-4603-81B0-304603E6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086E6-BF4E-4431-9734-30C1A050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EA62A-BF04-41DD-A8BF-2B106BB6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E6EC-0F9A-4D29-AD8B-916600B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FAEEF-01A3-45DE-A161-1BB393348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705F1C-44CF-4090-AF94-BB6645CD5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039D-48BC-416F-AF41-6DC5ABE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E2B0B9-495D-4113-A736-C79ED9E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EEEC5A-B0DB-4F9A-81F4-3F289A0F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A8FD9D-0DFE-4CE5-8156-BCEA30C3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BE8F31-15DD-4C51-8A54-E85A9AB4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A38B93-9DAB-4CD7-B020-A3236C84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609187-90B5-42A8-A5E7-DE68981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5C0005-C796-4973-B600-BAF779E8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D1A137-3C15-41D0-862A-3D79315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8FE070-EC31-4442-AB6E-D8631DB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909A7C-90B9-4D59-B3E6-BEC160D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CD6BD-5CC1-4B98-9FA3-5DE329CDF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6C839A-6E8E-440E-AAFE-59F4A09882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7D9D0D-C325-45A5-AB60-A6AF5C336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0826E4-C621-457D-91CF-2A9092E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F720ED-8ECA-4FE9-B258-F05C82E0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F3DBAB-5EAF-4BD3-8EA4-6D2620A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1CE5A2-302C-4B7C-B684-685A7509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BD58AD-4370-4745-B16E-EEAF5D4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903329-3526-4874-994E-D374740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7B2AEF-0A17-4ACE-B8D7-4754B0E3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8F1ED3-5B94-45E1-B42C-9056E2E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13400-96B3-4433-8784-BE655668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71B87B-C1CD-4C65-9765-8889E46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C9AFCE-555F-4747-85B8-6B5BB31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8357B1-5C62-4763-BAAB-B760F1118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BEC8A-0E34-4EED-805E-7A5148BDB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EFC18-EC3A-456B-A741-622EE2F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6D3E9-FBD0-47C2-84A9-C21C7A7A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BFA88-077A-46C8-B577-F9318E23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D2A1F-91E8-494A-A25A-1ABB3268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36867-5026-4DFD-BB17-B1236022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1E833-ADED-4E64-9C27-56F0172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F645B-0F48-48F4-8BDD-6927BE81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FEC69-DC11-4999-BA64-FE10FB3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C20E1-030C-4AF4-AFCF-BF39127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A1D8B-016F-4FE0-BBD8-E9778085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A6584-B443-42B4-A8A6-85C9F67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B2C71-2B01-4EE7-A112-959C8CFBA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7E9FF4-B135-4714-8F46-9A96AF1AF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3F590C-7D13-4F31-96D7-DB7C767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4E862E-D839-4F59-A72F-8C8C000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3C5956-6CF4-4104-8AEE-701389B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4F3085-C141-41A3-94A7-3AC794E7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4FCC2-2CE5-4080-B3BC-2A6B67E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4C5AD9-8482-4CDE-B66B-75D3A711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F54001-57EE-44FB-8D2C-9E9BB918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69A7A5-F795-477A-B63E-4E8754F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371101-C15B-4E87-95BC-A20D5093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A2F6E1-EEBE-427B-A9A4-1B58E7B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12C899-A67D-47D8-A179-CE34653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208C9A-B623-4572-9AD9-F10A941ADD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DB36A6-B37F-4649-BB0B-F9DABDF47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D7279A-4CC4-4326-BFF7-A7FA1FC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C979C4-BBFA-40D1-AC1F-F43DE03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38FAB-3FE8-4DA6-A911-F548765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56B3F8-C2E3-4B16-B7A6-38362FC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2A41F9-3E7D-4EF2-BF35-B4DB293B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3B8846-E7B5-4432-A548-1FFE58FB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DB4030-0080-48FE-B691-4866A69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5FC5EE-5B3C-4CD7-A087-E3D9E599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CDABDF-2FD3-4433-BDF1-96F8DDF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71FA13-C146-4850-9A59-382F4B8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0AA893-03AB-4356-82CA-79E1423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EE7068-6AA6-45B7-9EE3-A4BC3A83E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1F171-2238-4D6A-8F12-7E92B3B09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15AD5-7F25-4BDF-9993-3A43146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D3703-408C-4FCE-A5AC-39671A4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2F026-FC5B-4AC1-B3D4-4485BF9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90322-1289-4DE4-83C1-A6097344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C971D-3FFF-4693-A0D5-71110BE0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2266D-D615-4409-BD08-E244A205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9E42C-4494-4F72-B5F1-AE41E2A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82B9C-A051-47B3-957B-ED8D213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BFEB9-CAEA-4920-B98F-E13BFFC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78965-4F43-40E7-A554-AA9E6C0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7F7D0-3589-4A1D-99EB-84E45E3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D078-186A-4624-8538-69B67652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EDB66-FE2E-4AEA-9A7E-FF14485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FCD81-E87E-46CD-91FC-D61D23A16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E644B-581E-4C4D-9256-9262632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FBE74-5D51-4B65-8010-9200B1BB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8D33F-6AF8-429A-9199-70B8FA5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486D0-EE80-4F64-BA06-90FC44E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19121-3B4F-4D59-87E6-A125638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9409A-DC61-41EE-A37F-109B9845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4747D-C72C-4C9F-A7B8-C41EFBB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4EA1A-6F37-438A-BF02-F88254D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8E3F7-001F-4E22-BED8-46C625A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9D307-1318-4693-9BCB-2BEDA5B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F76EA-1586-4EDB-B7B5-38F889A6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50D51-6E93-4891-B9FA-6F946CFD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5AB12C-3B02-4BE5-B2EB-E8227AEB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1B07C-999D-4995-81D7-EBFCF7D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E20BF-A28B-4095-BFFA-A9FEA1D2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49836-5C8D-4BD6-9855-6AF7362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03B16-9A32-49FB-BD51-61F70E2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E629A-E15F-4C06-95D5-091E5B9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E53E2-FA5A-4210-806E-179ECE4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B489B-7CDF-4DBA-A77A-57A77E2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EFE25-CFF6-43BD-AAC7-B06E2B4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B1F17-F811-48E3-A185-7115927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6138E-65E6-4776-A090-B69CF05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23CF1-6EA0-4022-A3D4-5142DBC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12447-18A5-42A7-9668-F14FC4EB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F2ABD-0438-4BA1-B101-0EB3ECEA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FD541-7798-494F-9C8E-58E39960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4EBA6-BD19-4EA7-8AFA-4889634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00D58-676D-4C2F-95B0-163A03C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EB15C-84FD-46B0-987C-DA4B7566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6B840-5614-4714-BBA1-ED98C81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8A437-762B-4B39-97E2-0B766D9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620D4-7301-44EF-A904-0E96A26E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EF9C3-3592-4B99-BDEE-98EC63F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5C979-8A8D-448C-897A-3976F7F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04A43-8AC7-443D-9F81-91A960B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DDB0C-FD69-4479-945D-D4DD40B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514B8-8E13-4770-8BE2-3A4DC7F4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18887-AD0A-4727-B6B3-E8321ED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EA36B-E5F2-4E65-A722-8C437D51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3B98B-AD40-409F-86E6-E26CC98B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7FBD6-F499-4B4E-A992-A7C4089C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C4FDD-FA6C-43B9-81F7-B7E8606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10CE3-CC9B-484E-97E5-A8CCFC5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BFFE1-12A8-4384-BC4B-0232FFA4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73543-2FE0-47BA-89B6-DD11180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F24C8-3504-438C-93C6-215B50F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B43E9-DE7B-4353-B0DF-9BC53D99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D4100-6601-46CC-96BB-35E2D5A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0638D-9C50-4009-ABE5-7971908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BE4DD-6F58-4625-9B2E-603825C6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C4A5B-F263-43C0-853E-C96C5523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9F4EB0-52A2-4A34-8531-FA3CD6F9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093D9-CB81-4D3B-B945-6912C3F8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EF7EC8-06B6-4BF3-9763-08B13062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F5FF62-BB0C-4AEB-BA9F-48C43F6F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0B611-97F5-4CDB-94E9-EF210D1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8484A-1646-4D5E-AFB0-7CCF360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CF8A8-B013-4609-8C22-CA3B1FA8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E6E90-FD68-44B2-950A-2F76F4D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88153-1E0E-428D-BD1E-B527A8F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73F3C8-92DD-4041-9540-AF2D426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8801A-9484-48E5-BB6B-D343878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2278CE-1A03-4E80-B7FC-3EC32AF0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4D6BF-7DAC-4BD0-BB86-BBD11F33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F93C4-4295-4D99-BF7A-A6B64643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13635-F75C-4457-B7F6-A6C9FA0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64A15-E6FD-4B72-8E77-44B5984E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AEDD54-DD4D-43DD-85AA-4390E23D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EAA1A-1C13-4C48-87FB-ECBFB131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E9DFF-3784-4C3B-B767-4199261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66C76-DEC6-4B69-8F3B-562AB972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C8D2F-0C0E-4AEA-B251-CEE227B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9EFC28-D8EE-40CF-A91E-E201843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FC133-B565-49CA-B283-6D29E33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6902-C230-4E9C-84FC-2631038F6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E594A-3749-432A-96A4-4C85D15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23832E-18A5-44FD-9415-BAA93358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22865-ECF4-4B09-99BE-676AF013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C026D7-FA69-48D9-AF25-206CEE19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E5C57-80D6-48E1-B528-FB60DB6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09A42B-8D51-4145-A97C-4064D2F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72AFAE-A5A3-495D-A5BB-2B3C31A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5B3E6B-374E-4863-AE03-5480B1F0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51CC7-0F47-454B-BF39-10B1D01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8580DA-0D96-4340-9344-AADFF680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8F99-AB0C-4FEA-9DCC-2C2DD77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DD8352-4B78-41EF-9251-E09E893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3BAEB5-A1B8-4991-8F28-3349BFC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30E71-AF8D-4A3B-B66E-BDAC677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345054-AC67-4349-A4EA-1003978B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04A3D2-9E4C-45C5-B733-FA213A62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2D9FD6-2EA5-46F5-9AA9-9AE7133B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B23F2D-96F4-4159-8F51-066B1D4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4AA1A-3B03-4B3D-A7CA-6948AC5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E17F81-12E5-4E85-BD34-24D2BBA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8BB122-371C-427C-BDED-C57F575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A303-EB40-49D5-8C9C-2BF46A31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E58F4F-6D7F-4931-8DE8-78586409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1EB149-96A3-480C-BA46-710AEB0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390E90-8A4E-44BB-BA41-7376AED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8CF563-CAA5-45BA-9E61-29DE663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18A769-DB50-4543-A81E-24383D0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38C310-DF3D-40BC-B749-16B71AC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5454E-3732-46D3-B18A-ECDDC82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B66BE5-F986-458F-A3C4-5AB52F71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F3DE79-8D12-43B8-87A5-4758B72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26B61-F9F1-4EF7-8C27-8E1DACB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54B9-C732-4551-9E19-28076669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AF2B-C546-4E2B-ABB2-5DA87EE3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D3ED52-BFD9-4E77-95D0-46373499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061AA2-F9CB-45A2-A1FA-77534EB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8A6870-4848-4146-932E-899426E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AE8E6D-0C12-4A33-8218-6E31F65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268022-A5F2-4093-8AAB-328524E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CABBD5-7B7F-45FC-BB55-93DC89D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67A82F-C301-43B9-912F-06827CE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E3C2ED-9E1D-4AC1-9B00-A9D07D2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1923F-9444-481B-9DE0-EC81D095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4DA96C-30D9-472E-BB81-29C739D1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93B6-C6A3-4E72-AC86-119B635B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2ADB7F-792A-42D0-BDF8-5F34221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7B8F5-9C46-4683-B4ED-79B0C1D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C4297E-383C-4EDA-A186-140DD39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9DC302-1106-4408-9E90-3B73F10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987CD-A325-456B-A792-A03DCC25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A8FAAB-3DE7-4D2A-9705-DD4A1E6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378B5C-6763-489C-9BCE-84E504C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C7E34C-4C4C-4087-AC3E-72003B0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75AE8A-6CDA-45C3-8723-6EB1175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6A799F-6262-49D0-A3E4-30D45C64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C170-0B48-4BAD-A51B-7360C222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BFB012-F094-45BE-83DB-A4BADD5B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E7DA70-1660-4453-B620-C4DD9003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9DE0EB-1370-4701-8A16-2A5C596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CF3BAC-A850-494D-84DB-2CF967E9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52A81F-4BEB-464E-984B-5C73533F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E86466-0637-4F46-8D7B-F4ED189C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D48DEF-99E4-484E-9543-0481AF6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CEE1D-2ECE-44F3-A2E6-8444980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16F609-71B4-49C5-AFD3-DC2F256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A2FF22-EF7F-42DB-8786-7507A1F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0274-A39F-4A32-80A3-59F5AE1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35647B-CA5A-4D61-B21E-40CB8538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84F9E4-DAFE-41B4-B2C6-918B7836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2E93D-9EEB-49BF-AFF0-2DF45CAF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13FD-03D1-494E-AC48-DE99DA3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53B4-0CCA-49A8-86F1-2FA7B6E9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E714-219E-4B70-8E0D-00D47852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B186-7420-4598-9BA9-897E0DE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69CA-A6FE-49F2-B2D6-1BFB9D592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EDD93-3949-46FC-8030-E386DA98A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CA4C-5B0C-47C2-8E09-50A025AC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8FCE8-C3C9-40F1-8088-2D1CE23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C6DC2-9ED5-4ED3-AA0F-B7A8AEC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BEE9E-6A25-4FA1-8ADE-5B2CFA30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6B676-FD86-418B-AEAB-384E85FD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480D8-A3D5-4544-BF3D-14CA62D0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74FA7-8968-4A73-B625-BE221E83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D2EF4-6D75-4FEA-91AB-76534DE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F1B3C-CA94-4E87-B7B7-5D141134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8CD5C-8B71-40A5-9724-CC2AF2C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28017-2934-4BB6-91AA-5AB85E00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43C8-4FCC-44F5-A882-D43880F5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E3345-79A7-43F1-AF20-6DD9CD8FA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7C947-CDA2-4F94-BA89-BE44C97A09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A8529-A339-40FA-936F-68A9DF1A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8E3BD3-2305-456D-8BE1-86DA0ED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BE6CF-C128-495C-A2ED-E8DB3D4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53AFF-3B66-4459-9C1E-2D4BDD16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62704-6ADE-4339-AB2C-1A9804AB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BE3F9-1E0B-4D66-AC67-593ACC8D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C62EE-8C66-4549-90D4-EDFC05C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75217-4E35-4905-B06C-0B08DBA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CAA7-8C92-457A-B8B4-8A299AE2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ABDF2-33BF-4228-A3C5-90DD3B0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012C3-9B07-4459-B871-EEC0B19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14A23-9F4F-4C42-B64A-8F5ABE56C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0025-8D85-48F2-AD63-A827F1C9F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EBF4-27B7-467A-9423-D5D9D8DD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73F3-0AA4-4B90-A2A3-EBB941D9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3ACA9-CF21-45D9-93EC-7145595C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76F6-7729-4766-9330-08B3A84E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30F2-C5E3-4FDB-A44C-469AB78D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660B-1F9A-438A-9097-F21E5EB8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D20C-9A65-41C1-9983-440C6FA6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0569-B874-402A-B216-3923CE22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42736-4F52-4AAB-BB9A-F1CF8BF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A72D-EC1D-4921-8173-628593C4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CD7D-D538-4A9B-98C7-4646D88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C908-C5D8-489A-AA95-B5C3A1593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BF5E9-CD6D-4DCE-B15F-7BD1FD532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46F08-EF7E-4812-BDAB-897B0BE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180FC-0F73-4E7A-AFF2-3773E2D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7FD67-BEFA-4182-87DE-C73AF53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4C0CD-52C1-4EED-BB77-8B419D98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9404-DDE5-4593-81DC-C90F670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C1C90-2810-4C83-8033-F722B331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2200A-0D30-4F7D-B85B-8A040E4E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00BEB-B38B-4F56-92C3-CEFA5C2D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2943B-6C9C-4DEB-91A5-D269B16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5079D-5511-4C83-A289-AAE355B0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89F18-4B02-4F36-96BE-090504A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A612B-1D16-442D-8DCD-642AB5C4F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26FCF-FA5A-4610-BC13-756CCF6C2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6A3D59-7456-4A4F-8009-D4FAB30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67E61-597F-4AE1-A967-AA11277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EDF0-4440-46B4-A3F8-213754D669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A7E8-DFA9-43B5-BF87-51DECB51017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0C72-1861-4AD5-BD4B-A449192DE3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1837-15F0-43B5-86CB-3B52436555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EAA7-C879-4F60-BE27-6E5449511A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F95-4E36-42A2-8B4B-074D826EBE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C30-F0CF-42BE-831C-7112E639B0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FEE-788F-40CE-BD93-B32A5EDC2EE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3F1-43DE-4E33-B714-CBA4939046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BFC-85DB-4C7E-9D17-337B5079E21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382-D0F2-4664-B0C0-504BC4D0AA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C1B-ABBB-46AC-9428-409E51FA1B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38F5-4ACC-44A9-97A7-C05B09DB1A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FF58-B513-438D-B2B0-E08519725FA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2DB-2352-49EC-8410-C58401E255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5EAA-BE36-4097-B861-37CC54024A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4CF-0F17-49EC-9D42-F54D07C8D4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92F7-2AAB-4569-B66F-4130AC14E2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5B0-00CB-46D9-A398-ED59A4E13C0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A35-716F-48CE-A98E-74E2FD31CC4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992E-49F1-45B7-9A9F-7D05233A884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3DE-19E8-463C-B1D0-769C5F8F5CC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1B2B-173D-419C-8138-AD11E75FF7D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B87D-5CF4-4433-A3C3-7F3EFEA201A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CEC-80C3-431B-89F8-C7BB76AB031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164-6ED9-42FD-BDFD-5FE3AFC3786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0A7-5F0D-4493-B0AE-5C14F01F08B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B40-1781-4543-93F5-270AA691A8B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18D-EC74-4564-B253-604068CB662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0B9-670A-411E-B066-D06514C9C8E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6F3-723B-4161-96D6-B857EC960D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1170-7E84-4213-A795-9FB5253CDC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81F1-16C6-44DE-BF9C-4B80DD21C18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AFE4-8569-4214-AC4C-3FF857997DD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8A8-1D0B-469F-B24D-3F920FEB88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BF68-972D-45CB-AB25-1A9BE9B7F1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395280" y="2060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的意义和读写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六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7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8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8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8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6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联系生活、引出百分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图片 19458" descr="程序格式化百分2"/>
          <p:cNvPicPr/>
          <p:nvPr/>
        </p:nvPicPr>
        <p:blipFill>
          <a:blip r:embed="rId1"/>
          <a:stretch/>
        </p:blipFill>
        <p:spPr>
          <a:xfrm>
            <a:off x="1332000" y="1773360"/>
            <a:ext cx="6257880" cy="44305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17"/>
          <p:cNvSpPr/>
          <p:nvPr/>
        </p:nvSpPr>
        <p:spPr>
          <a:xfrm>
            <a:off x="3851280" y="4221000"/>
            <a:ext cx="129708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7" name="图片 19460" descr="衣服标牌"/>
          <p:cNvPicPr/>
          <p:nvPr/>
        </p:nvPicPr>
        <p:blipFill>
          <a:blip r:embed="rId2"/>
          <a:stretch/>
        </p:blipFill>
        <p:spPr>
          <a:xfrm>
            <a:off x="3564000" y="1773360"/>
            <a:ext cx="1790640" cy="453852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9461" descr="6单元的报纸"/>
          <p:cNvPicPr/>
          <p:nvPr/>
        </p:nvPicPr>
        <p:blipFill>
          <a:blip r:embed="rId3"/>
          <a:stretch/>
        </p:blipFill>
        <p:spPr>
          <a:xfrm>
            <a:off x="2700360" y="1700280"/>
            <a:ext cx="4540320" cy="468000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22"/>
          <p:cNvSpPr/>
          <p:nvPr/>
        </p:nvSpPr>
        <p:spPr>
          <a:xfrm>
            <a:off x="3635280" y="3141720"/>
            <a:ext cx="1656000" cy="86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Rectangle 24"/>
          <p:cNvSpPr/>
          <p:nvPr/>
        </p:nvSpPr>
        <p:spPr>
          <a:xfrm>
            <a:off x="5483160" y="5864400"/>
            <a:ext cx="792360" cy="27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Rectangle 25"/>
          <p:cNvSpPr/>
          <p:nvPr/>
        </p:nvSpPr>
        <p:spPr>
          <a:xfrm>
            <a:off x="5867280" y="4941720"/>
            <a:ext cx="793800" cy="26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矩形 19465"/>
          <p:cNvSpPr/>
          <p:nvPr/>
        </p:nvSpPr>
        <p:spPr>
          <a:xfrm>
            <a:off x="342720" y="3573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"/>
                            </p:stCondLst>
                            <p:childTnLst>
                              <p:par>
                                <p:cTn id="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20481" descr="6单元的报纸"/>
          <p:cNvPicPr/>
          <p:nvPr/>
        </p:nvPicPr>
        <p:blipFill>
          <a:blip r:embed="rId1"/>
          <a:stretch/>
        </p:blipFill>
        <p:spPr>
          <a:xfrm>
            <a:off x="5292720" y="1773360"/>
            <a:ext cx="2863800" cy="295272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20482" descr="程序格式化百分2"/>
          <p:cNvPicPr/>
          <p:nvPr/>
        </p:nvPicPr>
        <p:blipFill>
          <a:blip r:embed="rId2"/>
          <a:stretch/>
        </p:blipFill>
        <p:spPr>
          <a:xfrm>
            <a:off x="684360" y="1773360"/>
            <a:ext cx="2881080" cy="203976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20483" descr="衣服标牌"/>
          <p:cNvPicPr/>
          <p:nvPr/>
        </p:nvPicPr>
        <p:blipFill>
          <a:blip r:embed="rId3"/>
          <a:stretch/>
        </p:blipFill>
        <p:spPr>
          <a:xfrm>
            <a:off x="3780000" y="1773360"/>
            <a:ext cx="1218960" cy="3095640"/>
          </a:xfrm>
          <a:prstGeom prst="rect">
            <a:avLst/>
          </a:prstGeom>
          <a:ln w="0">
            <a:noFill/>
          </a:ln>
        </p:spPr>
      </p:pic>
      <p:sp>
        <p:nvSpPr>
          <p:cNvPr id="1496" name="文本框 20484"/>
          <p:cNvSpPr/>
          <p:nvPr/>
        </p:nvSpPr>
        <p:spPr>
          <a:xfrm>
            <a:off x="4840200" y="5784840"/>
            <a:ext cx="5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7" name="Picture 20" descr="男天使副本"/>
          <p:cNvPicPr/>
          <p:nvPr/>
        </p:nvPicPr>
        <p:blipFill>
          <a:blip r:embed="rId4"/>
          <a:stretch/>
        </p:blipFill>
        <p:spPr>
          <a:xfrm>
            <a:off x="250920" y="486900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498" name="Group 18"/>
          <p:cNvGrpSpPr/>
          <p:nvPr/>
        </p:nvGrpSpPr>
        <p:grpSpPr>
          <a:xfrm>
            <a:off x="2050920" y="4726080"/>
            <a:ext cx="2809800" cy="1007640"/>
            <a:chOff x="2050920" y="4726080"/>
            <a:chExt cx="2809800" cy="1007640"/>
          </a:xfrm>
        </p:grpSpPr>
        <p:sp>
          <p:nvSpPr>
            <p:cNvPr id="1499" name="AutoShape 15"/>
            <p:cNvSpPr/>
            <p:nvPr/>
          </p:nvSpPr>
          <p:spPr>
            <a:xfrm>
              <a:off x="2050920" y="4726080"/>
              <a:ext cx="2808000" cy="1007640"/>
            </a:xfrm>
            <a:prstGeom prst="wedgeRoundRectCallout">
              <a:avLst>
                <a:gd name="adj1" fmla="val -60231"/>
                <a:gd name="adj2" fmla="val 4118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0" name="Text Box 16"/>
            <p:cNvSpPr/>
            <p:nvPr/>
          </p:nvSpPr>
          <p:spPr>
            <a:xfrm>
              <a:off x="2123640" y="480420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你还在什么地方见过上面这样的数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1" name="Text Box 20"/>
          <p:cNvSpPr/>
          <p:nvPr/>
        </p:nvSpPr>
        <p:spPr>
          <a:xfrm>
            <a:off x="539640" y="51577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像上面这样的数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、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5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叫做</a:t>
            </a: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数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2" name="组合 20490"/>
          <p:cNvGrpSpPr/>
          <p:nvPr/>
        </p:nvGrpSpPr>
        <p:grpSpPr>
          <a:xfrm>
            <a:off x="539640" y="5445000"/>
            <a:ext cx="8604360" cy="815400"/>
            <a:chOff x="539640" y="5445000"/>
            <a:chExt cx="8604360" cy="815400"/>
          </a:xfrm>
        </p:grpSpPr>
        <p:sp>
          <p:nvSpPr>
            <p:cNvPr id="1503" name="Text Box 21"/>
            <p:cNvSpPr/>
            <p:nvPr/>
          </p:nvSpPr>
          <p:spPr>
            <a:xfrm>
              <a:off x="539640" y="5661000"/>
              <a:ext cx="86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百分数表示一个数是另一个数的百分之几，如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表示一个数占另一个数的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4" name="组合 20492"/>
            <p:cNvGrpSpPr/>
            <p:nvPr/>
          </p:nvGrpSpPr>
          <p:grpSpPr>
            <a:xfrm>
              <a:off x="8172360" y="5445000"/>
              <a:ext cx="666720" cy="815400"/>
              <a:chOff x="8172360" y="5445000"/>
              <a:chExt cx="666720" cy="815400"/>
            </a:xfrm>
          </p:grpSpPr>
          <p:sp>
            <p:nvSpPr>
              <p:cNvPr id="1505" name="文本框 20493"/>
              <p:cNvSpPr/>
              <p:nvPr/>
            </p:nvSpPr>
            <p:spPr>
              <a:xfrm>
                <a:off x="8172360" y="580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6" name="文本框 20494"/>
              <p:cNvSpPr/>
              <p:nvPr/>
            </p:nvSpPr>
            <p:spPr>
              <a:xfrm>
                <a:off x="8229600" y="5445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7" name="直接连接符 20495"/>
              <p:cNvSpPr/>
              <p:nvPr/>
            </p:nvSpPr>
            <p:spPr>
              <a:xfrm>
                <a:off x="8307360" y="586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08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联系生活、引出百分数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1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47480" y="135000"/>
            <a:ext cx="6932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感悟，理解概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10"/>
          <p:cNvSpPr/>
          <p:nvPr/>
        </p:nvSpPr>
        <p:spPr>
          <a:xfrm>
            <a:off x="4284720" y="1557360"/>
            <a:ext cx="3311640" cy="1079640"/>
          </a:xfrm>
          <a:prstGeom prst="wedgeRoundRectCallout">
            <a:avLst>
              <a:gd name="adj1" fmla="val 58916"/>
              <a:gd name="adj2" fmla="val 15148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你能说说上页图中几个百分数各表示什么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AutoShape 17"/>
          <p:cNvSpPr/>
          <p:nvPr/>
        </p:nvSpPr>
        <p:spPr>
          <a:xfrm>
            <a:off x="4498920" y="3933720"/>
            <a:ext cx="2952720" cy="1008000"/>
          </a:xfrm>
          <a:prstGeom prst="wedgeRoundRectCallout">
            <a:avLst>
              <a:gd name="adj1" fmla="val 63009"/>
              <a:gd name="adj2" fmla="val -1810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第二幅图中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65.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表示羊毛占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Text Box 18"/>
          <p:cNvSpPr/>
          <p:nvPr/>
        </p:nvSpPr>
        <p:spPr>
          <a:xfrm>
            <a:off x="1836720" y="5380200"/>
            <a:ext cx="604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数也叫做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百分率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或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百分比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3" name="组合 21509"/>
          <p:cNvGrpSpPr/>
          <p:nvPr/>
        </p:nvGrpSpPr>
        <p:grpSpPr>
          <a:xfrm>
            <a:off x="1282680" y="2679840"/>
            <a:ext cx="3289320" cy="1440360"/>
            <a:chOff x="1282680" y="2679840"/>
            <a:chExt cx="3289320" cy="1440360"/>
          </a:xfrm>
        </p:grpSpPr>
        <p:sp>
          <p:nvSpPr>
            <p:cNvPr id="1514" name="AutoShape 12"/>
            <p:cNvSpPr/>
            <p:nvPr/>
          </p:nvSpPr>
          <p:spPr>
            <a:xfrm>
              <a:off x="1282680" y="2679840"/>
              <a:ext cx="3289320" cy="1439640"/>
            </a:xfrm>
            <a:prstGeom prst="wedgeRoundRectCallout">
              <a:avLst>
                <a:gd name="adj1" fmla="val -57384"/>
                <a:gd name="adj2" fmla="val 32027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第一个图中的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表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已经格式化的部分占所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要格式化的总量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5" name="组合 21511"/>
            <p:cNvGrpSpPr/>
            <p:nvPr/>
          </p:nvGrpSpPr>
          <p:grpSpPr>
            <a:xfrm>
              <a:off x="3495600" y="3417840"/>
              <a:ext cx="656640" cy="702360"/>
              <a:chOff x="3495600" y="3417840"/>
              <a:chExt cx="656640" cy="702360"/>
            </a:xfrm>
          </p:grpSpPr>
          <p:sp>
            <p:nvSpPr>
              <p:cNvPr id="1516" name="文本框 21512"/>
              <p:cNvSpPr/>
              <p:nvPr/>
            </p:nvSpPr>
            <p:spPr>
              <a:xfrm>
                <a:off x="3495600" y="3697200"/>
                <a:ext cx="609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文本框 21513"/>
              <p:cNvSpPr/>
              <p:nvPr/>
            </p:nvSpPr>
            <p:spPr>
              <a:xfrm>
                <a:off x="3543120" y="3417840"/>
                <a:ext cx="609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8" name="直接连接符 21514"/>
              <p:cNvSpPr/>
              <p:nvPr/>
            </p:nvSpPr>
            <p:spPr>
              <a:xfrm>
                <a:off x="3571560" y="3780000"/>
                <a:ext cx="41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519" name="图片 21515" descr="蓝色衣服红领巾男孩"/>
          <p:cNvPicPr/>
          <p:nvPr/>
        </p:nvPicPr>
        <p:blipFill>
          <a:blip r:embed="rId1"/>
          <a:stretch/>
        </p:blipFill>
        <p:spPr>
          <a:xfrm>
            <a:off x="-36360" y="3182760"/>
            <a:ext cx="1574640" cy="172908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21516" descr="绿色衣服男孩"/>
          <p:cNvPicPr/>
          <p:nvPr/>
        </p:nvPicPr>
        <p:blipFill>
          <a:blip r:embed="rId2"/>
          <a:stretch/>
        </p:blipFill>
        <p:spPr>
          <a:xfrm>
            <a:off x="7308720" y="4078440"/>
            <a:ext cx="1675080" cy="18716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6" descr="女天使"/>
          <p:cNvPicPr/>
          <p:nvPr/>
        </p:nvPicPr>
        <p:blipFill>
          <a:blip r:embed="rId3"/>
          <a:stretch/>
        </p:blipFill>
        <p:spPr>
          <a:xfrm>
            <a:off x="7620120" y="1413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522" name="矩形 21518"/>
          <p:cNvSpPr/>
          <p:nvPr/>
        </p:nvSpPr>
        <p:spPr>
          <a:xfrm>
            <a:off x="206964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4"/>
          <p:cNvSpPr/>
          <p:nvPr/>
        </p:nvSpPr>
        <p:spPr>
          <a:xfrm>
            <a:off x="3325320" y="396360"/>
            <a:ext cx="7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交流反馈，形成概念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Text Box 5"/>
          <p:cNvSpPr/>
          <p:nvPr/>
        </p:nvSpPr>
        <p:spPr>
          <a:xfrm>
            <a:off x="684360" y="1916280"/>
            <a:ext cx="734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数通常不写成分数形式，而在原来的分子后面加上百分号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来表示，读作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1403280" y="335772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1403280" y="4248000"/>
            <a:ext cx="165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5.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7" name="Text Box 8"/>
          <p:cNvSpPr/>
          <p:nvPr/>
        </p:nvSpPr>
        <p:spPr>
          <a:xfrm>
            <a:off x="1403280" y="513864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3060720" y="335772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Text Box 10"/>
          <p:cNvSpPr/>
          <p:nvPr/>
        </p:nvSpPr>
        <p:spPr>
          <a:xfrm>
            <a:off x="3060720" y="424800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Text Box 11"/>
          <p:cNvSpPr/>
          <p:nvPr/>
        </p:nvSpPr>
        <p:spPr>
          <a:xfrm>
            <a:off x="3060720" y="513864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4572000" y="338472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十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2" name="Text Box 13"/>
          <p:cNvSpPr/>
          <p:nvPr/>
        </p:nvSpPr>
        <p:spPr>
          <a:xfrm>
            <a:off x="4572000" y="427356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六十五点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Text Box 14"/>
          <p:cNvSpPr/>
          <p:nvPr/>
        </p:nvSpPr>
        <p:spPr>
          <a:xfrm>
            <a:off x="4572000" y="513864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一百二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4" name="矩形 1"/>
          <p:cNvSpPr/>
          <p:nvPr/>
        </p:nvSpPr>
        <p:spPr>
          <a:xfrm>
            <a:off x="206964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5" name="矩形 2"/>
          <p:cNvSpPr/>
          <p:nvPr/>
        </p:nvSpPr>
        <p:spPr>
          <a:xfrm>
            <a:off x="228564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6" name="矩形 22542"/>
          <p:cNvSpPr/>
          <p:nvPr/>
        </p:nvSpPr>
        <p:spPr>
          <a:xfrm>
            <a:off x="2501640" y="3932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7" name="矩形 22543"/>
          <p:cNvSpPr/>
          <p:nvPr/>
        </p:nvSpPr>
        <p:spPr>
          <a:xfrm>
            <a:off x="2717640" y="4148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应用特征，解决问题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Text Box 5"/>
          <p:cNvSpPr/>
          <p:nvPr/>
        </p:nvSpPr>
        <p:spPr>
          <a:xfrm>
            <a:off x="950760" y="1816200"/>
            <a:ext cx="484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写出下面的百分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0" name="Text Box 6"/>
          <p:cNvSpPr/>
          <p:nvPr/>
        </p:nvSpPr>
        <p:spPr>
          <a:xfrm>
            <a:off x="971640" y="2781360"/>
            <a:ext cx="4844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一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1" name="Text Box 7"/>
          <p:cNvSpPr/>
          <p:nvPr/>
        </p:nvSpPr>
        <p:spPr>
          <a:xfrm>
            <a:off x="341964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二十八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Text Box 8"/>
          <p:cNvSpPr/>
          <p:nvPr/>
        </p:nvSpPr>
        <p:spPr>
          <a:xfrm>
            <a:off x="615636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零点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Line 13"/>
          <p:cNvSpPr/>
          <p:nvPr/>
        </p:nvSpPr>
        <p:spPr>
          <a:xfrm>
            <a:off x="111600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Line 15"/>
          <p:cNvSpPr/>
          <p:nvPr/>
        </p:nvSpPr>
        <p:spPr>
          <a:xfrm>
            <a:off x="370836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Line 16"/>
          <p:cNvSpPr/>
          <p:nvPr/>
        </p:nvSpPr>
        <p:spPr>
          <a:xfrm>
            <a:off x="651672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Rectangle 19"/>
          <p:cNvSpPr/>
          <p:nvPr/>
        </p:nvSpPr>
        <p:spPr>
          <a:xfrm>
            <a:off x="1476360" y="4254480"/>
            <a:ext cx="107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Rectangle 20"/>
          <p:cNvSpPr/>
          <p:nvPr/>
        </p:nvSpPr>
        <p:spPr>
          <a:xfrm>
            <a:off x="4243680" y="424512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Rectangle 21"/>
          <p:cNvSpPr/>
          <p:nvPr/>
        </p:nvSpPr>
        <p:spPr>
          <a:xfrm>
            <a:off x="6908760" y="4245120"/>
            <a:ext cx="97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4"/>
          <p:cNvSpPr/>
          <p:nvPr/>
        </p:nvSpPr>
        <p:spPr>
          <a:xfrm>
            <a:off x="879480" y="1844640"/>
            <a:ext cx="484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读一读下面的百分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Rectangle 11"/>
          <p:cNvSpPr/>
          <p:nvPr/>
        </p:nvSpPr>
        <p:spPr>
          <a:xfrm>
            <a:off x="925560" y="3040200"/>
            <a:ext cx="872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7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Rectangle 14"/>
          <p:cNvSpPr/>
          <p:nvPr/>
        </p:nvSpPr>
        <p:spPr>
          <a:xfrm>
            <a:off x="230040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Rectangle 15"/>
          <p:cNvSpPr/>
          <p:nvPr/>
        </p:nvSpPr>
        <p:spPr>
          <a:xfrm>
            <a:off x="381168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9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Rectangle 16"/>
          <p:cNvSpPr/>
          <p:nvPr/>
        </p:nvSpPr>
        <p:spPr>
          <a:xfrm>
            <a:off x="532476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Rectangle 17"/>
          <p:cNvSpPr/>
          <p:nvPr/>
        </p:nvSpPr>
        <p:spPr>
          <a:xfrm>
            <a:off x="683604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19"/>
          <p:cNvSpPr/>
          <p:nvPr/>
        </p:nvSpPr>
        <p:spPr>
          <a:xfrm>
            <a:off x="92556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6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Rectangle 20"/>
          <p:cNvSpPr/>
          <p:nvPr/>
        </p:nvSpPr>
        <p:spPr>
          <a:xfrm>
            <a:off x="230004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.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Rectangle 21"/>
          <p:cNvSpPr/>
          <p:nvPr/>
        </p:nvSpPr>
        <p:spPr>
          <a:xfrm>
            <a:off x="3811680" y="4264200"/>
            <a:ext cx="116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3.3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Rectangle 22"/>
          <p:cNvSpPr/>
          <p:nvPr/>
        </p:nvSpPr>
        <p:spPr>
          <a:xfrm>
            <a:off x="5324760" y="4264200"/>
            <a:ext cx="136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1.7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Rectangle 23"/>
          <p:cNvSpPr/>
          <p:nvPr/>
        </p:nvSpPr>
        <p:spPr>
          <a:xfrm>
            <a:off x="6902640" y="4264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应用特征，解决问题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1" name=""/>
          <p:cNvGraphicFramePr/>
          <p:nvPr/>
        </p:nvGraphicFramePr>
        <p:xfrm>
          <a:off x="684360" y="3286080"/>
          <a:ext cx="7715160" cy="2019240"/>
        </p:xfrm>
        <a:graphic>
          <a:graphicData uri="http://schemas.openxmlformats.org/drawingml/2006/table">
            <a:tbl>
              <a:tblPr/>
              <a:tblGrid>
                <a:gridCol w="1008000"/>
                <a:gridCol w="2849760"/>
                <a:gridCol w="38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    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百分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意义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2" name="组合 25615"/>
          <p:cNvGrpSpPr/>
          <p:nvPr/>
        </p:nvGrpSpPr>
        <p:grpSpPr>
          <a:xfrm>
            <a:off x="2259360" y="3789360"/>
            <a:ext cx="6489360" cy="1410480"/>
            <a:chOff x="2259360" y="3789360"/>
            <a:chExt cx="6489360" cy="1410480"/>
          </a:xfrm>
        </p:grpSpPr>
        <p:sp>
          <p:nvSpPr>
            <p:cNvPr id="1563" name="Rectangle 115"/>
            <p:cNvSpPr/>
            <p:nvPr/>
          </p:nvSpPr>
          <p:spPr>
            <a:xfrm>
              <a:off x="2259360" y="3862440"/>
              <a:ext cx="1643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表示两个数之间的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倍数关系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4" name="Rectangle 117"/>
            <p:cNvSpPr/>
            <p:nvPr/>
          </p:nvSpPr>
          <p:spPr>
            <a:xfrm>
              <a:off x="4643280" y="3789360"/>
              <a:ext cx="41054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既可以表示一个具体的数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、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又可以表示两个数之间的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倍数关系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6620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五、分析比较、巩固形成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18"/>
          <p:cNvSpPr/>
          <p:nvPr/>
        </p:nvSpPr>
        <p:spPr>
          <a:xfrm>
            <a:off x="1187280" y="5445000"/>
            <a:ext cx="6769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以百分数的后面不能写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单位名称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7" name="Text Box 4"/>
          <p:cNvSpPr/>
          <p:nvPr/>
        </p:nvSpPr>
        <p:spPr>
          <a:xfrm>
            <a:off x="527040" y="136512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比较辨析分数、百分数的异同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8" name="Picture 20" descr="男天使副本"/>
          <p:cNvPicPr/>
          <p:nvPr/>
        </p:nvPicPr>
        <p:blipFill>
          <a:blip r:embed="rId1"/>
          <a:stretch/>
        </p:blipFill>
        <p:spPr>
          <a:xfrm>
            <a:off x="395280" y="2009880"/>
            <a:ext cx="1297080" cy="1203120"/>
          </a:xfrm>
          <a:prstGeom prst="rect">
            <a:avLst/>
          </a:prstGeom>
          <a:ln w="0">
            <a:noFill/>
          </a:ln>
        </p:spPr>
      </p:pic>
      <p:grpSp>
        <p:nvGrpSpPr>
          <p:cNvPr id="1569" name="组合 25622"/>
          <p:cNvGrpSpPr/>
          <p:nvPr/>
        </p:nvGrpSpPr>
        <p:grpSpPr>
          <a:xfrm>
            <a:off x="1979640" y="2133720"/>
            <a:ext cx="6549840" cy="1055880"/>
            <a:chOff x="1979640" y="2133720"/>
            <a:chExt cx="6549840" cy="1055880"/>
          </a:xfrm>
        </p:grpSpPr>
        <p:sp>
          <p:nvSpPr>
            <p:cNvPr id="1570" name="AutoShape 15"/>
            <p:cNvSpPr/>
            <p:nvPr/>
          </p:nvSpPr>
          <p:spPr>
            <a:xfrm>
              <a:off x="1979640" y="2133720"/>
              <a:ext cx="6549840" cy="719280"/>
            </a:xfrm>
            <a:prstGeom prst="wedgeRoundRectCallout">
              <a:avLst>
                <a:gd name="adj1" fmla="val -54263"/>
                <a:gd name="adj2" fmla="val 35870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1" name="Text Box 16"/>
            <p:cNvSpPr/>
            <p:nvPr/>
          </p:nvSpPr>
          <p:spPr>
            <a:xfrm>
              <a:off x="2004840" y="2205360"/>
              <a:ext cx="63835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说一说百分数和分数在意义上有什么相同和不同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4"/>
          <p:cNvSpPr/>
          <p:nvPr/>
        </p:nvSpPr>
        <p:spPr>
          <a:xfrm>
            <a:off x="522360" y="137016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介绍数学小知识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72"/>
          <p:cNvSpPr/>
          <p:nvPr/>
        </p:nvSpPr>
        <p:spPr>
          <a:xfrm>
            <a:off x="46656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五、分析比较、巩固形成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74" name="图片 26627" descr="未标题-41"/>
          <p:cNvPicPr/>
          <p:nvPr/>
        </p:nvPicPr>
        <p:blipFill>
          <a:blip r:embed="rId1"/>
          <a:stretch/>
        </p:blipFill>
        <p:spPr>
          <a:xfrm>
            <a:off x="754200" y="2025720"/>
            <a:ext cx="77054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4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